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A52-A9FA-4933-B16E-CE9FD3DD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06F-BF5F-44C2-8AD1-1A9F41D2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491-7096-40D7-A9CB-6FAA8600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CD8-A88B-4B6A-8723-5E696646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7DE-EEA2-4BFB-B491-6211049A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332-668F-496E-B31D-25BBD2E1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9F51-8050-43C4-B81A-710B990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BF24-CBE8-49C8-97D1-CF1FD214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1DFD-0F1C-4353-BD18-D9D02E87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CBA3-4B84-479C-9D95-FA05814B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4F4E-C799-467E-A1ED-FD78A18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CB6-E655-43C6-BE06-2691FB8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6B46-9519-400D-9CB7-59D2585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2929-428C-4D73-A9EE-A24C875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A01-11B4-4910-8ECF-3F2F5C70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457E-CFF8-4A1A-8406-A2FF41EE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05B-1CB1-48D4-BBFA-096DF29B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2BA-37D2-427B-A00C-58DFFF30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A4C-863F-46AF-BFD0-0B260BFC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11F-4907-4010-856D-84B9A2A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420-29BD-40A4-BE1C-3E13616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6A3-A770-4853-88DD-2CCF2FD1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B8A-3DC2-4DFE-9877-85A0C68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8EF-59B4-4DBB-B1C1-AD0F63A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9600" y="640080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91E-4E29-4CAD-BA8D-43DC0BA1029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97144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05A-9E57-40FE-A867-058FDF304A1E}" type="slidenum"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leep Walkin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y Ann Yi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09880"/>
            <a:ext cx="6096240" cy="9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omnambu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asic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” while “Sleep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 out activities such as dressing, eating, or talking without any conscious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dangerou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has no consci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may come across dangerous objects without real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asic (cont’d)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er’s eyes are usually half 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Children more often than grow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19720" y="2895480"/>
            <a:ext cx="3886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hen? And Why?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ccurs during deep sleep (III and 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, stress, fever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length and depth of deep sleep may cause sleep walking (reason why children tend to sleep walk more of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hould We Wake Them Up?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ake up a sleepwalker, it causes them brain damage/shock/heart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wake a sleepwalker so that they don’t do anything danger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stimulation before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room of obstacles (in case of sleep wal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 doors/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Fun Fact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eme cases of sleep walking can result in an unconscious drive in your 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case of murder, where the victim was found not guilty because he seemed to have been sleep walking through his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Sleep Walking." Wikipedia. 6 Oct. 2008. 8 Oct. 20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Sleep Walking." EMedicine Health. 8 Oct. 20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PIC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http://www.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cartoonstock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.com/lowres/epa1534l.jp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http: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//drawingtheboard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.blogspot.com/2007/08/sleep-walking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sleepsa.com/walkingeng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 Yi</cp:lastModifiedBy>
  <dcterms:modified xsi:type="dcterms:W3CDTF">2008-10-08T00:39:21Z</dcterms:modified>
  <cp:revision>3</cp:revision>
  <dc:subject/>
  <dc:title>Sleep Walking  By Ann Yi</dc:title>
</cp:coreProperties>
</file>